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A03F-C9A2-4DE4-B080-A452DE77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71B4-135F-40F7-BFD3-3ECA8CCE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A79F-416D-4F80-B526-C27DB8E5E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29BC-95F2-4C36-BB9A-CE2CCBE9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B763-77B6-4D99-A971-42C76408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7864-E613-40D4-8010-A2422FB3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5059-888B-4DEF-A599-9D943C74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7323-628D-4B20-B6BB-AC538A74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B861-2F00-42B1-A567-0E01A8C4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3615-1605-49E9-8B58-EFEBBD7C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38B6-5947-49F1-B8D8-EABBE792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4848-DFD4-473F-B330-E2AEA72A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DE21-BC57-4EEC-84E1-1ED5705E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7079-49BD-4D69-AC27-816AEC7D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2F9F-FEA6-44AE-8B4B-65D37E09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9768-3AE7-43FC-B65C-02381BFDB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3AB1-3576-4F4A-B5B3-2829C19E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DC2E-0DAA-4795-90CB-EBA7EC2D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4289-FEF8-4614-B2DD-1B568468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4A2D-A414-4503-9090-2B7EBBBC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99BB-8DB7-44F8-A67F-1294CFAC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0914-F973-4315-8E7B-54426297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77C2-E2CA-4EE4-86B9-09AB5CE6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E8E6-1A8E-4B42-B901-8B18BD34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B1B6-B2F3-4B97-AEBF-AEA323A91B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B717-8337-490C-A9FB-0046FFDBBE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598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0000ff"/>
                </a:solidFill>
                <a:latin typeface="Stencil"/>
              </a:rPr>
              <a:t>Pronouns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240" y="1752120"/>
            <a:ext cx="6248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tenci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tencil"/>
              </a:rPr>
              <a:t>By: Ethan Dodds , Katherine Crocker, and Mary Glen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ff"/>
                </a:solidFill>
                <a:latin typeface="Stencil"/>
              </a:rPr>
              <a:t>Book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Stencil"/>
              </a:rPr>
              <a:t>The Notebook-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Stencil"/>
              </a:rPr>
              <a:t>Percy Jackson The Olympians: The Lighting Thief- 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Stencil"/>
              </a:rPr>
              <a:t>Eargon- 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Stencil"/>
              </a:rPr>
              <a:t>Harry Potter- 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Stencil"/>
              </a:rPr>
              <a:t>Narnia- T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tencil"/>
              </a:rPr>
              <a:t>Movi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Rockwell Condensed"/>
              </a:rPr>
              <a:t>The Notebook-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Rockwell Condensed"/>
              </a:rPr>
              <a:t>Wizards Of Waverly Place: The movie-Th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Rockwell Condensed"/>
              </a:rPr>
              <a:t>The Grown up’s- Th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Rockwell Condensed"/>
              </a:rPr>
              <a:t>When In Rome- The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Rockwell Condensed"/>
              </a:rPr>
              <a:t>Percy Jackson The Olympian: The Lighting Thief- 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Stencil"/>
              </a:rPr>
              <a:t>Definition Of Pronou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tenci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Stencil"/>
              </a:rPr>
              <a:t>A pronoun takes the place of a nou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9900ff"/>
                </a:solidFill>
                <a:latin typeface="Arial Black"/>
              </a:rPr>
              <a:t>Credi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han Dod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7:16:55Z</dcterms:created>
  <dc:creator>technician</dc:creator>
  <dc:description/>
  <dc:language>en-US</dc:language>
  <cp:lastModifiedBy>technician</cp:lastModifiedBy>
  <dcterms:modified xsi:type="dcterms:W3CDTF">2010-09-02T17:14:02Z</dcterms:modified>
  <cp:revision>8</cp:revision>
  <dc:subject/>
  <dc:title>Pronouns    </dc:title>
</cp:coreProperties>
</file>